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774600" y="-360"/>
            <a:ext cx="28861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5680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406080"/>
            <a:ext cx="28875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6080"/>
            <a:ext cx="2886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BF47E65-66E6-4281-A46B-3B6DB29FB81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5716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Keine Befassung mit den bi-lateralen internationalen Akteu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ED4B-B442-4F44-86DB-F7E58FF91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24EE-B910-4CFB-8E5B-DD0906C55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699A-37D5-4A19-9945-567903CF2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6AA8-E142-4BFE-964F-EDAA84DDC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684036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7D75-C718-4AAA-96DF-610F35E30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61424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4141800"/>
            <a:ext cx="26424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2A78-463A-4755-B88D-7FFE118C6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7FE1-E5E4-4A92-ACFF-2F766C0AA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DFCA-CC83-4241-AB3A-4193109BF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684036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64FD-718D-4AD7-BD5A-5FB1FB5AD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D12E-E2E1-4A94-9AD3-7BDF4A3B6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414180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A373-A8C7-4B05-9F15-E594DDA06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614240"/>
            <a:ext cx="400500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41800"/>
            <a:ext cx="8207280" cy="23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6614-CEC7-4DAF-83C4-60CE54A97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-17640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2" marL="89856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3" marL="125568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4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5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6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763960" y="6619680"/>
            <a:ext cx="2896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4a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9AB7-E317-497F-B39A-389F29477A9E}" type="slidenum">
              <a:rPr b="0" lang="de-DE" sz="800" spc="-1" strike="noStrike">
                <a:solidFill>
                  <a:srgbClr val="004a7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247680"/>
            <a:ext cx="9144000" cy="1008000"/>
          </a:xfrm>
          <a:prstGeom prst="rect">
            <a:avLst/>
          </a:prstGeom>
          <a:solidFill>
            <a:srgbClr val="7c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3" descr=""/>
          <p:cNvPicPr/>
          <p:nvPr/>
        </p:nvPicPr>
        <p:blipFill>
          <a:blip r:embed="rId2"/>
          <a:stretch/>
        </p:blipFill>
        <p:spPr>
          <a:xfrm>
            <a:off x="7591320" y="549360"/>
            <a:ext cx="1228680" cy="42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9b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8"/>
          <p:cNvSpPr/>
          <p:nvPr/>
        </p:nvSpPr>
        <p:spPr>
          <a:xfrm>
            <a:off x="0" y="2205000"/>
            <a:ext cx="8663040" cy="42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1151" descr=""/>
          <p:cNvPicPr/>
          <p:nvPr/>
        </p:nvPicPr>
        <p:blipFill>
          <a:blip r:embed="rId2"/>
          <a:stretch/>
        </p:blipFill>
        <p:spPr>
          <a:xfrm>
            <a:off x="3851280" y="5532480"/>
            <a:ext cx="4680000" cy="758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-17640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2" marL="89856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3" marL="125568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4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5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6" marL="161280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78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0728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lood Relief Credit Programme (FRCP)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hort overview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ctober 201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6200" y="2205000"/>
            <a:ext cx="820764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5764320" y="6620040"/>
            <a:ext cx="28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DE07-1156-4BB5-A175-F8C164421F06}" type="slidenum">
              <a:rPr b="0" lang="de-DE" sz="800" spc="-1" strike="noStrike">
                <a:solidFill>
                  <a:srgbClr val="004a7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CP- Phase 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Contribution of EUR 2.5 million within the framework of the European Fund for Bosnia and Herzegovina (EFBH)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Channelled to the final beneficiaries hit by the flood through 2 Microfinance Institutions (Partner from Tuzla and Mikrofin from Banja Luka); each institution received EUR 1.25 million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ffective as of end of June 2014, fully disbursed to final beneficiaries by end of Oct. 2014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ligibility criteria for final beneficiaries: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Private, micro, small and medium sized enterprises, entrepreneurs and private households effected by the flooding 2014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Loans exclusively for refurbishment and damage recovery of business entities and households party and/or completely devastated by the floods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Loans shall not exceed the amount of EUR 3000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Maturity 3 years with 6 months grace period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0% interest rate, no fees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lvl="1"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5764320" y="6620040"/>
            <a:ext cx="28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2A6F-9898-48D7-ACA7-BDCADDA5837C}" type="slidenum">
              <a:rPr b="0" lang="de-DE" sz="800" spc="-1" strike="noStrike">
                <a:solidFill>
                  <a:srgbClr val="004a7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8403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RCP- Phase I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14240"/>
            <a:ext cx="82072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Contribution from the Federal Ministry for Economic Cooperation and Development (BMZ) amounting to EUR 5 million 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To be channelled to the final beneficiaries hit by the flood through 2 Microfinance Institutions (Partner from Tuzla and Mikrofin from Banja Luka)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ach institution will receive EUR 2.5 million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Risk coverage of up to 50% for any sub- loan and up to 15% of the loan amount in total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ffective: 2nd half of October 2014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Eligibility criteria for final beneficiaries: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Private, micro, small and medium sized enterprises, entrepreneurs and private households effected by the flooding 2014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Loans exclusively for refurbishment and damage recovery of business entities and households party and/or completely devastated by the floods.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Loans shall not exceed the amount of EUR 3000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Maturity 3 years with 6 months grace period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4a78"/>
              </a:buClr>
              <a:buSzPct val="9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4a78"/>
                </a:solidFill>
                <a:latin typeface="Arial"/>
              </a:rPr>
              <a:t>0% interest rate, no fees</a:t>
            </a: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  <a:p>
            <a:pPr marL="17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a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06:58Z</dcterms:created>
  <dc:creator>Heike Hartung</dc:creator>
  <dc:description/>
  <dc:language>en-US</dc:language>
  <cp:lastModifiedBy>operater</cp:lastModifiedBy>
  <dcterms:modified xsi:type="dcterms:W3CDTF">2014-10-09T14:04:48Z</dcterms:modified>
  <cp:revision>118</cp:revision>
  <dc:subject/>
  <dc:title>Präsentation</dc:title>
</cp:coreProperties>
</file>